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86B-8509-4E7F-A0F3-1C1E624F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5F2-404B-43D3-8D8C-A712467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375-9C5A-409A-98A4-D4367C22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C08-9833-489E-B764-53DE5FB5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DC91-5075-42B0-9AF9-349EF6DD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D34-4BDE-4A6E-8BBA-C41BDC75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3480-99AC-417C-8B7A-D6881DD3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44C5-CEA5-4AF7-8303-427B50F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BF9B-BADA-4C0B-83FB-CF05A357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386-B10D-443B-8F62-DEF254E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3302-A90C-470D-AD26-6BE8B8C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EA1-449E-4496-85FF-160E2246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C809-A7E6-4240-8A4E-8BF9917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C02-07B9-4A82-BC0E-A6826A2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D647-325A-4B46-837C-792ACD7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E883-C1E1-4BF2-A652-0C86FF85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D453-A969-4DCE-BBBA-154FBF9E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2FA-0975-4115-8492-AFAE54F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D07-163B-4A5E-92E5-291F9FD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A56-CAE6-44D8-B9ED-4A9A9A4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685-27BE-4239-8E25-3BA8026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1F8-D155-4538-9404-EE2DF7E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983-BCEA-4433-BCF5-2A43930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C22-C8F0-4B56-86C7-F5B521F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516-94C1-4834-AE20-89A9C3B47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B3C-3ED2-46FE-966A-DBEAD4193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lanm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228600"/>
            <a:ext cx="8610480" cy="69343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b7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Pocket Diaper</a:t>
            </a:r>
            <a:endParaRPr b="0" lang="en-US" sz="1800" spc="1" strike="noStrike">
              <a:ln w="12600">
                <a:solidFill>
                  <a:srgbClr val="ffffb7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87692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juan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-22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4495680"/>
            <a:ext cx="533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427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Chelsea"/>
          <p:cNvPicPr/>
          <p:nvPr/>
        </p:nvPicPr>
        <p:blipFill>
          <a:blip r:embed="rId1"/>
          <a:stretch/>
        </p:blipFill>
        <p:spPr>
          <a:xfrm>
            <a:off x="304920" y="0"/>
            <a:ext cx="4572000" cy="425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Lanmon"/>
          <p:cNvPicPr/>
          <p:nvPr/>
        </p:nvPicPr>
        <p:blipFill>
          <a:blip r:embed="rId2"/>
          <a:srcRect l="3139" t="-6435" r="71748" b="0"/>
          <a:stretch/>
        </p:blipFill>
        <p:spPr>
          <a:xfrm>
            <a:off x="5562720" y="2362320"/>
            <a:ext cx="3581280" cy="39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4419720"/>
            <a:ext cx="624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Lany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2/28/2011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eb.mit.edu/invent/iow/lanmo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 Black"/>
              </a:rPr>
              <a:t>Invention: Pocket Di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s invention got its name because it has a pocket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verything need for a diaper change was ad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his invention went to the National Invention America and took 1</a:t>
            </a:r>
            <a:r>
              <a:rPr b="0" lang="en-US" sz="2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pl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Since the invention was success in 1994 at age 8 she joined lengthy tradition of female American invento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invention has a single-use powder puff of her own design, by making a "pillow" of powder wrapped in a dry wipe that she h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Each diaper has a pocket, which holds a disposable baby wipe and baby-powder "puff." With all the necessary equipment in one place, baby caretakers no longer need to gather an assortment of items for a chang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Inventor: Chelsea Lanm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She is a resident of Hampton Texas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he has been an inventor for seven years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t age five she helped her mother change her brothers di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Her invention went threw trail and error an succeeded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mon was invited to make a special appearance at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997 Emerson -MIT Awards Ceremon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in Washington, DC, where she shared the stage with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uglas Engelhar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rtrude Elion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She won first prize, and as a result, while still in kindergarten, she was featured in numerous newspaper and magazine articles, and appeared on national television talk sh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63868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young aspiring inventors, Chelsea has this advic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5:03Z</dcterms:created>
  <dc:creator>install</dc:creator>
  <dc:description/>
  <dc:language>en-US</dc:language>
  <cp:lastModifiedBy>install</cp:lastModifiedBy>
  <dcterms:modified xsi:type="dcterms:W3CDTF">2011-03-11T18:30:56Z</dcterms:modified>
  <cp:revision>15</cp:revision>
  <dc:subject/>
  <dc:title>Slide 1</dc:title>
</cp:coreProperties>
</file>